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39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итам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мо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у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то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табил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о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фикац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еж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ин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зи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</a:t>
            </a:r>
            <a:r>
              <a:rPr b="0" lang="sr-Latn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пиро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цик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9998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NH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5"/>
          <p:cNvGraphicFramePr/>
          <p:nvPr/>
        </p:nvGraphicFramePr>
        <p:xfrm>
          <a:off x="3132000" y="3789360"/>
          <a:ext cx="2214720" cy="16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3789360"/>
                    <a:ext cx="2214720" cy="16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The peptide bond has some double-bond character."/>
          <p:cNvPicPr/>
          <p:nvPr/>
        </p:nvPicPr>
        <p:blipFill>
          <a:blip r:embed="rId1"/>
          <a:stretch/>
        </p:blipFill>
        <p:spPr>
          <a:xfrm>
            <a:off x="2340000" y="1773360"/>
            <a:ext cx="47242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428760" y="1071720"/>
            <a:ext cx="8229600" cy="53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ч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ајн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о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0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Zn(II), Cu(II), Cu(I), Fe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8"/>
          <p:cNvGraphicFramePr/>
          <p:nvPr/>
        </p:nvGraphicFramePr>
        <p:xfrm>
          <a:off x="4788000" y="2060640"/>
          <a:ext cx="334152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060640"/>
                    <a:ext cx="334152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 –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с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br>
              <a:rPr sz="3600"/>
            </a:br>
            <a:r>
              <a:rPr b="0" lang="en-U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	</a:t>
            </a:r>
            <a:r>
              <a:rPr b="1" lang="sr-Latn-CS" sz="32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Fe(II), Fe(III), Cu(I), Cu(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6"/>
          <p:cNvGraphicFramePr/>
          <p:nvPr/>
        </p:nvGraphicFramePr>
        <p:xfrm>
          <a:off x="3348000" y="2205000"/>
          <a:ext cx="3340080" cy="44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05000"/>
                    <a:ext cx="3340080" cy="44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268280"/>
            <a:ext cx="8434440" cy="16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ys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br>
              <a:rPr sz="2800"/>
            </a:br>
            <a:r>
              <a:rPr b="0" lang="sr-Latn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Zn(II), Cu(II), Cu(I), Fe(III),  Fe(II), Ni(I), Ni(II), Ni(III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7"/>
          <p:cNvGraphicFramePr/>
          <p:nvPr/>
        </p:nvGraphicFramePr>
        <p:xfrm>
          <a:off x="3492360" y="3141720"/>
          <a:ext cx="2907000" cy="23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41720"/>
                    <a:ext cx="2907000" cy="23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85840" y="928800"/>
            <a:ext cx="8229600" cy="56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n i Asn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кисеониковог атома карбоксил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7096680" y="371628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аг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898560" y="35002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2507040" y="5661000"/>
            <a:ext cx="462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Fe(III), Mn(III</a:t>
            </a:r>
            <a:r>
              <a:rPr b="1" lang="sr-RS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)</a:t>
            </a:r>
            <a:r>
              <a:rPr b="1" lang="sr-Latn-CS" sz="18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, Fe(II), Zn(II), Mg(II), Ca(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10"/>
          <p:cNvGraphicFramePr/>
          <p:nvPr/>
        </p:nvGraphicFramePr>
        <p:xfrm>
          <a:off x="2340000" y="2095560"/>
          <a:ext cx="2160720" cy="28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2095560"/>
                    <a:ext cx="2160720" cy="28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1"/>
          <p:cNvGraphicFramePr/>
          <p:nvPr/>
        </p:nvGraphicFramePr>
        <p:xfrm>
          <a:off x="4932360" y="2421000"/>
          <a:ext cx="2232000" cy="243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421000"/>
                    <a:ext cx="2232000" cy="243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r –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фенолата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3600" spc="-1" strike="noStrike">
                <a:solidFill>
                  <a:srgbClr val="2d2d8a"/>
                </a:solidFill>
                <a:latin typeface="Times New Roman"/>
                <a:ea typeface="Times New Roman"/>
              </a:rPr>
              <a:t>Fe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9"/>
          <p:cNvGraphicFramePr/>
          <p:nvPr/>
        </p:nvGraphicFramePr>
        <p:xfrm>
          <a:off x="2556000" y="2133720"/>
          <a:ext cx="2763720" cy="43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0" y="2133720"/>
                    <a:ext cx="2763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428760" y="928800"/>
            <a:ext cx="8229600" cy="55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, Thr, 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rp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 простих хидроксилних или амино гру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1838160" y="2637000"/>
            <a:ext cx="5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6159600" y="255744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11"/>
          <p:cNvGraphicFramePr/>
          <p:nvPr/>
        </p:nvGraphicFramePr>
        <p:xfrm>
          <a:off x="900000" y="3068640"/>
          <a:ext cx="307188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07188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12"/>
          <p:cNvGraphicFramePr/>
          <p:nvPr/>
        </p:nvGraphicFramePr>
        <p:xfrm>
          <a:off x="5219640" y="3068640"/>
          <a:ext cx="2906640" cy="24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3068640"/>
                    <a:ext cx="290664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 биомолекули као потенцијални лиган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13"/>
          <p:cNvGraphicFramePr/>
          <p:nvPr/>
        </p:nvGraphicFramePr>
        <p:xfrm>
          <a:off x="1547640" y="1916280"/>
          <a:ext cx="2376720" cy="37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16280"/>
                    <a:ext cx="237672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7"/>
          <p:cNvSpPr/>
          <p:nvPr/>
        </p:nvSpPr>
        <p:spPr>
          <a:xfrm>
            <a:off x="824400" y="39337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4"/>
          <p:cNvGraphicFramePr/>
          <p:nvPr/>
        </p:nvGraphicFramePr>
        <p:xfrm>
          <a:off x="4932360" y="2276640"/>
          <a:ext cx="2448000" cy="32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32360" y="2276640"/>
                    <a:ext cx="2448000" cy="32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19"/>
          <p:cNvSpPr/>
          <p:nvPr/>
        </p:nvSpPr>
        <p:spPr>
          <a:xfrm>
            <a:off x="7646400" y="42148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1341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 координације најчешће настају комплекси са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  </a:t>
            </a:r>
            <a:r>
              <a:rPr b="0" i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 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6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ин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зи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а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ли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ог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ред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9"/>
          <p:cNvSpPr/>
          <p:nvPr/>
        </p:nvSpPr>
        <p:spPr>
          <a:xfrm>
            <a:off x="1715400" y="119700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инск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6"/>
          <p:cNvGraphicFramePr/>
          <p:nvPr/>
        </p:nvGraphicFramePr>
        <p:xfrm>
          <a:off x="2484360" y="2565360"/>
          <a:ext cx="350676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4360" y="2565360"/>
                    <a:ext cx="350676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TextBox 8"/>
          <p:cNvSpPr/>
          <p:nvPr/>
        </p:nvSpPr>
        <p:spPr>
          <a:xfrm>
            <a:off x="1769760" y="21337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5579280" y="206064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638880" y="1916280"/>
            <a:ext cx="119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е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1697760" y="5950080"/>
            <a:ext cx="101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5653080" y="587700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3498840" y="5877000"/>
            <a:ext cx="17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инске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з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7"/>
          <p:cNvGraphicFramePr/>
          <p:nvPr/>
        </p:nvGraphicFramePr>
        <p:xfrm>
          <a:off x="2050920" y="2205000"/>
          <a:ext cx="4753080" cy="39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05000"/>
                    <a:ext cx="4753080" cy="39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59280" y="980640"/>
            <a:ext cx="2728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1187280" y="1773360"/>
          <a:ext cx="6642360" cy="48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642360" cy="48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или РН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643040"/>
            <a:ext cx="8175600" cy="46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ма с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 или РНК 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ни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dna_molecule"/>
          <p:cNvPicPr/>
          <p:nvPr/>
        </p:nvPicPr>
        <p:blipFill>
          <a:blip r:embed="rId1"/>
          <a:stretch/>
        </p:blipFill>
        <p:spPr>
          <a:xfrm>
            <a:off x="2411280" y="26370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пирол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цик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пиро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сиће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традентат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цик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валент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нзи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4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30388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143000"/>
            <a:ext cx="822960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фил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титуиса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фиринск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508720" y="723960"/>
            <a:ext cx="259236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74480" indent="-474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умулира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пор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иштењ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за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 algn="just">
              <a:lnSpc>
                <a:spcPct val="150000"/>
              </a:lnSpc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Структурна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оз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мбра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aintained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у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г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електриса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н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4480" indent="-474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тамин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Latn-C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211720" y="1908000"/>
            <a:ext cx="3456000" cy="474840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684360" y="3429000"/>
            <a:ext cx="1839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Connector 5"/>
          <p:cNvSpPr/>
          <p:nvPr/>
        </p:nvSpPr>
        <p:spPr>
          <a:xfrm>
            <a:off x="6875640" y="3213000"/>
            <a:ext cx="144360" cy="216000"/>
          </a:xfrm>
          <a:prstGeom prst="flowChartConnector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loud 6"/>
          <p:cNvSpPr/>
          <p:nvPr/>
        </p:nvSpPr>
        <p:spPr>
          <a:xfrm>
            <a:off x="179280" y="2637000"/>
            <a:ext cx="4788000" cy="2376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Комплекс </a:t>
            </a:r>
            <a:r>
              <a:rPr b="1" i="1" lang="en-US" sz="20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Co(III)</a:t>
            </a:r>
            <a:r>
              <a:rPr b="1" i="1" lang="sr-RS" sz="2000" spc="-1" strike="noStrike">
                <a:solidFill>
                  <a:srgbClr val="6b6bcf"/>
                </a:solidFill>
                <a:latin typeface="Times New Roman"/>
                <a:ea typeface="Times New Roman"/>
              </a:rPr>
              <a:t>-јона ! !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37544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ензим 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4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476360" y="1785960"/>
            <a:ext cx="6276960" cy="4551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4718520" y="4005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ар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таедар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сијал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р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аг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циклич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тањ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цик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југова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пеша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зајн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адаш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ој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.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Носиоци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наелектрис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процесу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брзог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трансфера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нформациј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но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ул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.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Формирање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етаболизам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деградација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органских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72bfc5"/>
                </a:solidFill>
                <a:latin typeface="Times New Roman"/>
                <a:ea typeface="Times New Roman"/>
              </a:rPr>
              <a:t>4.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Трансфер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електро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ств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и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о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e(II)/F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, Cu(I)/Cu(II), Mn(II)/Mn(III)/Mn(IV), Co(I)/Co(II)/Co(III)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Активација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алих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олошк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ктив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Органометална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ка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труктуира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28760" y="2000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ов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или молекули, укључујући и макромолекуле који реагују са биометалима називају се БИОЛИГАН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воде која чини 90% целокупне масе у ћелији се налази и велики број простих анјона који могу реаговати са хидратисаним јонима метала, као што су: хлоридни јон, сулфатни, карбонатни, фосфатни</a:t>
            </a:r>
            <a:r>
              <a:rPr b="0" lang="sr-Latn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на исти начин могу реаговати и шећери, карбоксилне киселине, аминокиселин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 хидрат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у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оник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ев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лат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распрострањенији полисахариди су гликоген, скроб и целулоза и сви они су полимери глукоз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09800" indent="-60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сти шећери и полисахариди могу градити координациона једињења са биометалима, посебно са првом групом односно групом метала са ниским ковалентним каракт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 улогу у биосистемима имају липиди, естри виших масних киселина и глицер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биолиганди већи значај имају сложени липиди у којима је једна хидроксилна група глицерола везана за неку простетичку групу, па тако постој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олип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олип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ип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fosfogliceridi"/>
          <p:cNvPicPr/>
          <p:nvPr/>
        </p:nvPicPr>
        <p:blipFill>
          <a:blip r:embed="rId1"/>
          <a:stretch/>
        </p:blipFill>
        <p:spPr>
          <a:xfrm>
            <a:off x="4427640" y="4581360"/>
            <a:ext cx="253368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пиди се у биосистемима удружују у веће агрегате-мицеле код којих су хидрофобни делови међусобно повезани слабим силама (Лондонове и Ван дер Валсове), а хидрофилни делови се налазе са спољне стране мицеле и могу интераговати са молекулим у воденој фази па и са јонима мет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upload.wikimedia.org/wikipedia/commons/d/d1/MicelleColor.png"/>
          <p:cNvPicPr/>
          <p:nvPr/>
        </p:nvPicPr>
        <p:blipFill>
          <a:blip r:embed="rId1"/>
          <a:stretch/>
        </p:blipFill>
        <p:spPr>
          <a:xfrm>
            <a:off x="5580000" y="4599000"/>
            <a:ext cx="17622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9T17:40:43Z</dcterms:modified>
  <cp:revision>157</cp:revision>
  <dc:subject/>
  <dc:title>Slide 1</dc:title>
</cp:coreProperties>
</file>